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EF14-ECD3-4D01-BAB1-382C0F7B5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s of street lights, solar lantern shs et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s of street lights, solar lantern shs et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83A-D6AB-42E2-9424-0B42E2CE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0F2-4EE7-48E7-94D2-85CBC2EA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0A0-00FE-43E7-A713-E248DDD0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530-B3CF-4084-BB1F-703A26AD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6E0-C150-4CC1-8460-3C9A639E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A04-2E06-4025-BF38-C81CB916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8CA-5B1A-432D-B56C-14791A31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EC6-15D9-47F3-B53D-C3D9A91A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976-B31B-45F3-955B-63761211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D7D-B79C-45F9-B037-55349324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592-9547-48BB-983E-FC58173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6AE-96C5-4134-AD67-FBFA1F7B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7788-A61D-4EB7-9DA4-CC81E43F6D9F}" type="datetime">
              <a:rPr b="0" lang="en-PH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97F7-D2C1-456F-B690-1048C0311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cnchong@adb.or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istrator\My Documents\Downloads\20BB\20BB.tif"/>
          <p:cNvPicPr/>
          <p:nvPr/>
        </p:nvPicPr>
        <p:blipFill>
          <a:blip r:embed="rId1"/>
          <a:stretch/>
        </p:blipFill>
        <p:spPr>
          <a:xfrm>
            <a:off x="8077320" y="2286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0" y="2286000"/>
            <a:ext cx="2362320" cy="266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2362320" y="2286000"/>
            <a:ext cx="228600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762120" y="1328760"/>
            <a:ext cx="75992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NEP Workshop on Off-Grid Electrification in Myanm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F:\現場写真\L Trans Distri\L 020223 03.JPG"/>
          <p:cNvPicPr/>
          <p:nvPr/>
        </p:nvPicPr>
        <p:blipFill>
          <a:blip r:embed="rId4"/>
          <a:stretch/>
        </p:blipFill>
        <p:spPr>
          <a:xfrm>
            <a:off x="4648320" y="2286000"/>
            <a:ext cx="242244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5"/>
          <a:stretch/>
        </p:blipFill>
        <p:spPr>
          <a:xfrm>
            <a:off x="7070760" y="2286000"/>
            <a:ext cx="207324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798B-534A-43AF-B3D9-8EDEDACB2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762120" y="5062680"/>
            <a:ext cx="75992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B’s Energy Sector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January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358920"/>
            <a:ext cx="61722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llenges and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04920" y="1219320"/>
            <a:ext cx="86104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overnment commitment and government reach at villag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cent programs by MOI, DRD, MOAI, MOEP and others.  Current program by MLFDRD and regional govern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mmunity based organizations in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mmunity interest and willingness to accept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HSs are in use in several villages and help to provide a  demonstration eff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ow loads and very low affordability to p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ifficult terra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ck of access to financ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ck of technology awareness among rural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ck of reach of private RE suppliers at village level and after sales support 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eed a road map for rural electrification including clear targets, enabling policies, incentives, models, and concessional fund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6A32-8FC9-46E9-808A-EA46C7714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Solar Home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4568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urement contract signed on January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ound 1,000 SHS will be distributed at a subsidized pric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y Phi Taw: 2 Villages, Mandalay: 11 villages, Chin: 2 vill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utput Based Aid (OBA) protocol used to promote efficiency of subsidies. Payments after delive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 scale-up potential of the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2286000"/>
          <a:ext cx="6629400" cy="1979640"/>
        </p:xfrm>
        <a:graphic>
          <a:graphicData uri="http://schemas.openxmlformats.org/drawingml/2006/table">
            <a:tbl>
              <a:tblPr/>
              <a:tblGrid>
                <a:gridCol w="2209680"/>
                <a:gridCol w="2210040"/>
                <a:gridCol w="2209680"/>
              </a:tblGrid>
              <a:tr h="49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e Price (US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sidy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W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 W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W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D676-7DEA-4DAD-A028-291A0CE93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PV Solar Mini-grid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6816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villages selected in Mandalay Re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liminary socioeconomic assessments carr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nder documents and tech specs under prepa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ruction aimed to start by April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ding Sourc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3657600"/>
          <a:ext cx="7192800" cy="2133720"/>
        </p:xfrm>
        <a:graphic>
          <a:graphicData uri="http://schemas.openxmlformats.org/drawingml/2006/table">
            <a:tbl>
              <a:tblPr/>
              <a:tblGrid>
                <a:gridCol w="2397240"/>
                <a:gridCol w="2639880"/>
                <a:gridCol w="2155680"/>
              </a:tblGrid>
              <a:tr h="398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ce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bution net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 of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bution net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 of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ici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 conn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en con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te op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tion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8037-72E1-43A9-8814-34F3DA1A8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PV Solar Mini-grid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ach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consumption revenues will be collected by the private operator to cover for their investment and O&amp;M co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 supply, 60 HHs for 5Hrs/day, 150 watts/H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formal agreement between the village and the private operator is necessary before ADB disburs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riff structure, metering, and payment arrangements will be agreed bilaterally by the community and the operat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operator will be selected competitively among local compan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7315200" y="0"/>
            <a:ext cx="19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continu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10DB-81A9-4323-A86C-4AD2C3C88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Solar Lantern Charging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5238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villages identified for pilot projects in Mandalay Re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rget to Bottom of Pyramid (poorest househol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ort local business in rural off-grid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company invest in a charging station and recovers investment by renting and/or charging lanter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ging fee below cost of alternative uses (e.g. candl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B subsidizes a portion of the total cost to incentivize private sector to invest and train local entrepreneurs to operate the s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 Specs and tender documents under prepa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el: 50 lanterns with 5 junction box, 6hr/day, mobile charging facility, solar lanterns selling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cted implementation to start by March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68F6-B011-43D0-BE8B-8D28DD9C2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259056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A 8657-MYA: Off-Grid Renewable Energy Demonstration Project (Phase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05F1-E52C-49CF-890F-6E1D88D23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05920"/>
            <a:ext cx="6172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Off-Grid RE Project Out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04920" y="1076400"/>
            <a:ext cx="8610480" cy="54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pacity Development Technical As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DB approved the TA on 23 May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Funding: US$2 million (Japan Fund for Poverty Reduction/JF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ecuting Agency (EA)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inistry of Livestock, Fisheries and Rural (MLFRD) Development (MLFRD)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Agency (IA)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partment of Rural Development (DR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mplement an off-grid renewable energy demonstration project that will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upport the design and install renewable energy systems in 25 villages; targeting the central dry zone (Mandalay, Sagaing, and Magway reg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velop a geospatial least-cost energy access and investment plan for select regions an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engthen the capacity of government institutions to design and implement small-scale renewable energ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tus of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obilization of consultants: January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BCA7-AE61-45E4-AC3E-7BFF712F0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438280" y="1523520"/>
            <a:ext cx="4648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  <a:ea typeface="Arial"/>
              </a:rPr>
              <a:t>Than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ou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r atten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further inqu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oon-Sik Jung, SEEN/SE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cjung@adb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7EE2-9328-4151-A962-785A0C35D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920" y="588600"/>
            <a:ext cx="91695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rrent Sector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280" y="1523520"/>
            <a:ext cx="807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Low electrification ratio (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Cost effective way to extend electricity supply to about 6.4 million unconnected households, ER is around 31% as of 201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Electricity shortage in dry sea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Yangon required load shedding of 200 MW in summer 2013, while its peak demand growing at 13.7% annually and insufficient gas avail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igh technical and non-technical losses in transmission and distribu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27% in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Grid extension to rural areas will be expensive and could be delay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Gulim"/>
              </a:rPr>
              <a:t>Population of about 60 million with more than 70% in rural areas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Need to explore off-grid applications on a large sc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1F14-F8FC-4C62-97B9-A0E254555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25920" y="284040"/>
            <a:ext cx="91695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DB’s Involvement in the Energy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371600"/>
            <a:ext cx="53337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First-ever Sector Assessment Completed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New Energy Architecture Report: In collaboration with Accenture – 2013 (released at the World Economic Forum, Nay Pyi Taw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Facilitated drafting of the Electricity Law – 201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First Investment Program Approved –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Additional Investment Programs are being develop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Ongoing technical assistance programs focussed on power sector reform, capacity development and off-grid renewable energy applica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5791320" y="1676520"/>
            <a:ext cx="3047760" cy="384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3DF9-FB9D-48A2-B78A-55E9E514F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52280" y="103176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B’s Assist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1941480" y="4267080"/>
            <a:ext cx="754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f-grid Program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941480" y="3352680"/>
            <a:ext cx="754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-grid Program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1941480" y="2438280"/>
            <a:ext cx="7736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hancing Governance Program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CA52-2ED4-4761-B7FA-534046677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  <a:ea typeface="Arial"/>
              </a:rPr>
              <a:t>Enhancing Power Sector Governance Programs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520" y="99036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300"/>
              </a:spcBef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TA for Enhancing the Power Sector’s Legal and Regulatory Framework (TA 8469)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- Upgrading the Myanmar Electricity Law (1984) and the Electricity Rules  (1985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Institutional Strengthening of National Energy Management Committee in Energy  Policy and Planning (TA 835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- Energy Master Plan, Energy Efficiency Policy, Renewable Energy Development Strate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Capacity Development and Institutional Support (TA 824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- Power Sector Advisor to the Ministry of Electric P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Capacity Building for Project Identification Support (TA 825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- Grid performance standards, Transmission and Distribution Grid Co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Financial Management Assessment of Energy Sector (TA 821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trengthening the Use of Country Safeguard Systems (TA 756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Capacity building for implementing environment and social safegu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Gulim"/>
              </a:rPr>
              <a:t>Support for Public-Private Partnership Framework Development (TA 8624)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ulim"/>
              </a:rPr>
              <a:t>- Capacity build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awareness of PPP project process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300"/>
              </a:spcBef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vironmental Safeguard Institutional Strengthening (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Capacity building for comprehensive environmental quality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F3AC-45C1-4FE0-8C70-871572BA4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0880" y="1125000"/>
            <a:ext cx="86551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Gulim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Power Distribution Improvement Project ($60 mill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Five townships in Yangon region; four districts in Mandalay region; five districts in Sagaing region; and two townships in Magway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oan agreement was signed on 28 January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n going bids evaluation for goods, PIC mobilized in Dec.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Gulim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Power Transmission Improvement Project ($80 mill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habilitation and expansion of 66kV &amp; 230kV transmission lines and four substations in Yan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c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Power Transmission and Distribution II ($75 mill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oject scope - T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459640" y="617220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0" y="34596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On-Grid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EA03-BA85-43CF-867D-E52F32999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Arial"/>
              </a:rPr>
              <a:t>Off-Grid Program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85800" y="1162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7200" y="1370160"/>
            <a:ext cx="876312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Phase 1 (Q4/2013 – Q3/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unterpart: Ministry of Industry (MO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ilot Regions: Mandalay Region and Chin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utpu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ign and implement off-grid energy solutions for 20 vill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ast cost electrification plan for Mandalay reg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ernational Investor forum in Nay Pyi Taw in March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Phase 2 ( Q2/2014 – Q2/201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unterpart: Ministry of Livestock, Fisheries and Rural  Development (MLFR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verage: Mandalay, Sagaing, and Magway Reg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utpu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ign and implement off-grid energy solutions for public and community infrastructure in 25 off-grid vill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ast cost electrification plan, and related policy and regulatory sup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Phase 3 (tentative – Q3/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bine loan and grant funds (link with other energy access program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9A85-F515-49AB-AD14-5C9EB4351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2361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oposed Pilots under Phase 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8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3241-48D2-46CC-A6A9-D6AA193D0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266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Guiding Principles for Phase 1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33520" y="1463760"/>
            <a:ext cx="5029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sponsive to government’s request for immediate deployment of RE based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.  Adopt sustainable delivery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&gt;5km from G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pitalize on existing R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caled up in phase 2 &amp;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omote private sector particip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ring ADB experience in service delivery mode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everage ADB’s Energy for all Progra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ock taking in off-grid villages: energy poverty, affordability and willingness to pay, links to government plans, community participation and technology suppli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3103560" cy="391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F89A-6AF6-43E5-A954-FD8684F77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ussain</dc:creator>
  <dc:description/>
  <dc:language>en-US</dc:language>
  <cp:lastModifiedBy>Choon Sik Jung</cp:lastModifiedBy>
  <dcterms:modified xsi:type="dcterms:W3CDTF">2015-01-28T04:28:38Z</dcterms:modified>
  <cp:revision>802</cp:revision>
  <dc:subject/>
  <dc:title>Slide 1</dc:title>
</cp:coreProperties>
</file>